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266-FF77-48B2-B8F3-57A2C5BE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162-5150-43B1-AD15-F9E442D7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5CE3-DCF4-4B3B-8044-15CEDECD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6FC-1E7B-48D5-9B2B-A120FA0E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71D8-E42A-4405-B967-40CCBB02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358B-A0CB-428E-A3B1-799A5D17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6931-5FEB-4C2F-A1B3-D7D130CA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36DC-935A-466B-97E5-58FEF44D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CD29-EE49-4DBE-AAFB-0500EE9D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B4ED-146F-4651-8A28-AD9DAE76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619C-B6EC-4BA2-AA5A-9B3CCD63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5B2-E5A7-4A99-AB1B-CDF8FA04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2734-B632-46F7-93EC-849EAA1F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BFFE-24F9-43B2-B911-C9829C6D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7B3E-631F-49DC-BAE7-8AF1EDBD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7151-7DF9-4B13-A0DD-99135168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6F21-17DA-4C7C-A738-19FDC483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D61-02F5-40A2-B0E1-198322EA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9A6-846D-425D-B5D6-E5D947F7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3E1-450A-45DC-8909-A097ECCF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D7A-AB55-4F25-B335-12B872C7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F8A-9043-48AE-B8BE-1D7D16B2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027-589F-4563-BD41-7EF64FEE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A11-2024-45A1-8B00-FFF36F96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493C-989C-4EA6-B0D4-0EE51D38FD1C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BF48-220B-4D1A-A71A-123B339C30FE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R&#259;spuns%20corect.wav" TargetMode="External"/><Relationship Id="rId2" Type="http://schemas.openxmlformats.org/officeDocument/2006/relationships/hyperlink" Target="file:///R&#259;spuns%20gre&#351;it.wav" TargetMode="External"/><Relationship Id="rId3" Type="http://schemas.openxmlformats.org/officeDocument/2006/relationships/hyperlink" Target="file:///R&#259;spuns%20gre&#351;it.wav" TargetMode="External"/><Relationship Id="rId4" Type="http://schemas.openxmlformats.org/officeDocument/2006/relationships/hyperlink" Target="file:///R&#259;spuns%20gre&#351;it.wav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 Black"/>
              </a:rPr>
              <a:t>SISTEMUL PERIODIC AL ELEMENTEL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71640" y="5373720"/>
            <a:ext cx="720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cc00"/>
                </a:solidFill>
                <a:latin typeface="Arial"/>
              </a:rPr>
              <a:t>Alcătuit de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elev Rus Bianca-cls. a VII-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9308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85988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SISTEMUL PERIODIC AL ELEMENTEL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0"/>
            <a:ext cx="7931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Clasificarea elementelor după poziţia în Sistemul Period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etale ( elementele situate în stânga liniei îngroşate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emetale ( elementele situate în stânga liniei îngroşat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Exerciţiu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aceţi click pe răspunsul corect pentru următoarele elem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diu:               a) </a:t>
            </a:r>
            <a:r>
              <a:rPr b="0" lang="en-US" sz="2000" spc="-1" strike="noStrike" u="sng">
                <a:solidFill>
                  <a:srgbClr val="cccc00"/>
                </a:solidFill>
                <a:uFillTx/>
                <a:latin typeface="Arial"/>
                <a:hlinkClick r:id="rId1"/>
              </a:rPr>
              <a:t>meta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b) </a:t>
            </a:r>
            <a:r>
              <a:rPr b="0" lang="en-US" sz="2000" spc="-1" strike="noStrike" u="sng">
                <a:solidFill>
                  <a:srgbClr val="cccc00"/>
                </a:solidFill>
                <a:uFillTx/>
                <a:latin typeface="Arial"/>
                <a:hlinkClick r:id="rId2"/>
              </a:rPr>
              <a:t>ne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lf   :               a) </a:t>
            </a:r>
            <a:r>
              <a:rPr b="0" lang="en-US" sz="2000" spc="-1" strike="noStrike" u="sng">
                <a:solidFill>
                  <a:srgbClr val="cccc00"/>
                </a:solidFill>
                <a:uFillTx/>
                <a:latin typeface="Arial"/>
                <a:hlinkClick r:id="rId3"/>
              </a:rPr>
              <a:t>meta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b) ne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bon:             a) </a:t>
            </a:r>
            <a:r>
              <a:rPr b="0" lang="en-US" sz="2000" spc="-1" strike="noStrike" u="sng">
                <a:solidFill>
                  <a:srgbClr val="cccc00"/>
                </a:solidFill>
                <a:uFillTx/>
                <a:latin typeface="Arial"/>
                <a:hlinkClick r:id="rId4"/>
              </a:rPr>
              <a:t>meta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b) ne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iu:               a) metal          b) ne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asiu:            a) metal          b) ne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sfor:              a) metal          b) ne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SISTEMUL PERIODIC AL ELEMENTEL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89000"/>
            <a:ext cx="76932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TERMENI CHEI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c00"/>
                </a:solidFill>
                <a:latin typeface="Arial"/>
              </a:rPr>
              <a:t>Legea periodicităţi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c00"/>
                </a:solidFill>
                <a:latin typeface="Arial"/>
              </a:rPr>
              <a:t>Perioad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c00"/>
                </a:solidFill>
                <a:latin typeface="Arial"/>
              </a:rPr>
              <a:t>Grup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c00"/>
                </a:solidFill>
                <a:latin typeface="Arial"/>
              </a:rPr>
              <a:t>Clasificarea elementelor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c00"/>
                </a:solidFill>
                <a:latin typeface="Arial"/>
              </a:rPr>
              <a:t>Metale şi nemetale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53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ŞTIAŢI CĂ.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 perioada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 care Mendeleev a enun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at legea periodicit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ţ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i se cuno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teau numai 63 de elemente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ionierii chimiei rom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e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ti, profesorii Petru Poni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 dr. Istrati, se foloseau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 predare de sistemul periodic al lui Mendeleev?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3300"/>
                </a:solidFill>
                <a:latin typeface="Arial Black"/>
              </a:rPr>
              <a:t>SE CUNOAŞTE CĂ</a:t>
            </a:r>
            <a:r>
              <a:rPr b="1" i="1" lang="en-US" sz="2800" spc="-1" strike="noStrike">
                <a:solidFill>
                  <a:srgbClr val="ff3300"/>
                </a:solidFill>
                <a:latin typeface="Arial Black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tr-un punct minuscul f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ut cu creionul sunt 30000000000000000 atom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ele 7 metale cunoscute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 antichitate sunt: aur, argint, cupru, plumb, mercur, fier si stani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diametrele aproximative ale atomilor sunt cuprinse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tre 0, 0000001 mm (hidrogen) 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 0,0000005 mm (cesiu)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SISTEMUL PERIODIC AL ELEMENTEL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77868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Să ne reaminti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re este structura atomulu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um este structura învelişului electron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in ce se diferenţiază electronii într-un at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e nume mai poartă straturile energeti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um se notează straturile electroni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re este numărul maxim de electroni cu care se poate ocupa un str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6028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SISTEMUL PERIODIC AL ELEMENTEL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79930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300"/>
                </a:solidFill>
                <a:latin typeface="Arial Black"/>
              </a:rPr>
              <a:t>LEGEA PERIODICITĂŢI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cc00"/>
                </a:solidFill>
                <a:latin typeface="Arial"/>
              </a:rPr>
              <a:t>a fost formulată pentru prima dată de către Mendeleev, pornind de la observaţia că proprietăţile fizice şi chimice ale elementelor se repet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Care este diferenţa dintre proprietăţile fizice şi proprietăţile chim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cc00"/>
                </a:solidFill>
                <a:latin typeface="Arial"/>
              </a:rPr>
              <a:t>Ea are următorul enunţ: “ Proprietăţile fizice şi chimice ale elementelor se repetă în mod periodic în funcţie de numărul atomic Z 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47628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SISTEMUL PERIODIC AL ELEMENTEL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988640"/>
            <a:ext cx="78483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300"/>
                </a:solidFill>
                <a:latin typeface="Arial Black"/>
              </a:rPr>
              <a:t>Evoluţia Sistemului Period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 Black"/>
              </a:rPr>
              <a:t>TABELUL LUI MENDELE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c00"/>
                </a:solidFill>
                <a:latin typeface="Arial"/>
              </a:rPr>
              <a:t>Mendeleev a alcătuit şirul elementelor în ordinea creşterii maselor atomic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c00"/>
                </a:solidFill>
                <a:latin typeface="Arial"/>
              </a:rPr>
              <a:t>Elementele cu proprietăţi asemănătoare erau aşezate unul sub altu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c00"/>
                </a:solidFill>
                <a:latin typeface="Arial"/>
              </a:rPr>
              <a:t>Tabelul conţinea numai elementele cunoscute la acea vreme iar locurile elementelor nedescoperite au fost lăsate go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cc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SISTEMUL PERIODIC AL ELEMENTEL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Black"/>
              </a:rPr>
              <a:t>Evoluţia Sistemului Period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FORMA ACTUALĂ A SISTEMULUI PERIOD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nţine şiruri orizontale     ( perioade ) şi şiruri verti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 grupe ) de elemente chim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3357720"/>
            <a:ext cx="7344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907920"/>
            <a:ext cx="7924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SISTEMUL PERIODIC AL ELEMENTEL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806616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Perioade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nt notate cu cifre arabe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61840" y="2708280"/>
          <a:ext cx="7958160" cy="2736720"/>
        </p:xfrm>
        <a:graphic>
          <a:graphicData uri="http://schemas.openxmlformats.org/drawingml/2006/table">
            <a:tbl>
              <a:tblPr/>
              <a:tblGrid>
                <a:gridCol w="1873440"/>
                <a:gridCol w="3024000"/>
                <a:gridCol w="306072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a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 elementelor descoperi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 maxim de elemen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 şi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4 şi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SISTEMUL PERIODIC AL ELEMENTEL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16280"/>
            <a:ext cx="769320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 Black"/>
              </a:rPr>
              <a:t>Grupe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cuprind elementele cu proprietăţi asemănătoare. Sunt 18 grupe ( 8 principale şi 10 secundare ) notate cu cifre arab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3284640"/>
          <a:ext cx="7488360" cy="3200400"/>
        </p:xfrm>
        <a:graphic>
          <a:graphicData uri="http://schemas.openxmlformats.org/drawingml/2006/table">
            <a:tbl>
              <a:tblPr/>
              <a:tblGrid>
                <a:gridCol w="1150920"/>
                <a:gridCol w="2089080"/>
                <a:gridCol w="42483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 grup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 grupă după notaţia vec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UMIREA GRUP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9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 – 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 –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I –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II – II – 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II –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V –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V –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VI –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VII –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VIII - 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. Metalelor alcal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. Metalelor alcalino – pământoa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upe Secund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. Elementelor pământoa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. Carbon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. Azot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. Oxigenul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. Halogenil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r. Gazelor r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4:54:31Z</dcterms:created>
  <dc:creator>Florin Viu</dc:creator>
  <dc:description/>
  <dc:language>en-US</dc:language>
  <cp:lastModifiedBy>cursant</cp:lastModifiedBy>
  <dcterms:modified xsi:type="dcterms:W3CDTF">2010-09-02T08:06:31Z</dcterms:modified>
  <cp:revision>27</cp:revision>
  <dc:subject/>
  <dc:title>SISTEMUL PERIODIC AL ELEMENTELOR</dc:title>
</cp:coreProperties>
</file>